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B565-6590-44B9-9759-80ADFB1BE5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7D67-DCDC-432B-9772-B1D48D205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7003-198E-4996-8F0B-76C35F6AC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4194-E9B8-412C-A3DC-76375890D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4AEB-E7AB-4666-99C5-A175FD96D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810E-81E6-46C0-8AE1-2495BFB7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3A4E-C1C1-466D-9D1E-E4C08FB32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324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53735"/>
                </a:solidFill>
                <a:latin typeface="Trajan Pro"/>
              </a:rPr>
              <a:t>Session 5: On Fire with Holy L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586560" y="467352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Looking ah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0024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Work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nion 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Take-Home </a:t>
            </a:r>
            <a:r>
              <a:rPr b="1" lang="en-US" sz="3600" spc="-1" strike="noStrike">
                <a:solidFill>
                  <a:srgbClr val="000000"/>
                </a:solidFill>
                <a:latin typeface="Trajan Pro"/>
                <a:ea typeface="ＭＳ Ｐゴシック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your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-home” message—the one thing that spoke most loudly or clearly from today’s sess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140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ajan Pro"/>
                <a:ea typeface="Times New Roman"/>
              </a:rPr>
              <a:t>A Disciple</a:t>
            </a:r>
            <a:r>
              <a:rPr b="1" i="1" lang="ja-JP" sz="3600" spc="-1" strike="noStrike">
                <a:solidFill>
                  <a:srgbClr val="000000"/>
                </a:solidFill>
                <a:latin typeface="Trajan Pro"/>
                <a:ea typeface="Times New Roman"/>
              </a:rPr>
              <a:t>’</a:t>
            </a:r>
            <a:r>
              <a:rPr b="1" i="1" lang="en-US" sz="3600" spc="-1" strike="noStrike">
                <a:solidFill>
                  <a:srgbClr val="000000"/>
                </a:solidFill>
                <a:latin typeface="Trajan Pro"/>
                <a:ea typeface="Times New Roman"/>
              </a:rPr>
              <a:t>s Heart</a:t>
            </a:r>
            <a:r>
              <a:rPr b="1" lang="en-US" sz="3600" spc="-1" strike="noStrike">
                <a:solidFill>
                  <a:srgbClr val="000000"/>
                </a:solidFill>
                <a:latin typeface="Trajan Pro"/>
                <a:ea typeface="Times New Roman"/>
              </a:rPr>
              <a:t>: </a:t>
            </a:r>
            <a:br>
              <a:rPr sz="3600"/>
            </a:b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Times New Roman"/>
              </a:rPr>
              <a:t>Session 5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1760" y="1733040"/>
            <a:ext cx="6933960" cy="34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Garamon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Garamond Pro"/>
              </a:rPr>
              <a:t>To claim sanctification as both the renewal of your heart and the transformation of the wor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Garamon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Garamond Pro"/>
              </a:rPr>
              <a:t>To become a contagious Christian who shares the good news with ot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dobe Garamon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Garamond Pro"/>
              </a:rPr>
              <a:t>To discover how God might use the fire in your heart to confront the needs of the wor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28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Times New Roman"/>
              </a:rPr>
              <a:t>OPENING PRAY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1760" y="1371240"/>
            <a:ext cx="800100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 be to thee, my Lord Jesus Chris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the benefits thou hast given me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the pains and insults thou hast borne for me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st merciful redeemer, friend and brother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I know thee more clearly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ve thee more dearly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ollow thee more nearly, day by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. Richard of Chichester (1197–125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BIBLICAL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2762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ul, an apostle of Christ Jesus, by the will of God, for the sake of the promise of life that is in Christ Jesu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 Timothy, my beloved child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race, mercy, and peace from God the Father and Christ Jesus our Lord. I am grateful to God—whom I worship with a clear conscience, as my ancestors did—when I remember you constantly in my prayers night and day. Recalling your tears, I long to see you so that I may be filled with joy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8953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am reminded of your sincere faith, a faith that lived first in your grandmother Lois and your mother Eunice and now, I am sure, lives in you. For this reason I remind you to rekindle the gift of God that is within you through the laying on of my hands; for God did not give us a spirit of cowardice, but rather a spirit of power and of love and of self-discip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Timothy 1:1-7 NR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66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CONTEMPLATIVE PRACTI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61640"/>
            <a:ext cx="822960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 th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ing Prayer Session 5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out and work through the exerc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66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HOLY CLUB QUES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61640"/>
            <a:ext cx="8229600" cy="28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 into pairs or groups of three and discuss the selected Holy Club question(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irs/groups will serve as prayer partners for the coming we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8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DAILY WORKBOOK </a:t>
            </a: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EXPLO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5048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Poi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Christian perfection (sanctification) the Holy Spirit both renews our hearts and empowers us to be the agents of God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love and grace in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gn that a person is growing toward Christian perfection is a heart-burning passion to share the love of God with oth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necessary elements of discipleship that can keep the fire of divine love burning are doctrine, discipline, and Spir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66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352160"/>
            <a:ext cx="784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some ways we can live th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l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spel—personally and soci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some ideas for developing a prayer or action plan that helps you to live the whole gosp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7:34:08Z</dcterms:created>
  <dc:creator>BardPC</dc:creator>
  <dc:description/>
  <dc:language>en-US</dc:language>
  <cp:lastModifiedBy>Tim Cobb</cp:lastModifiedBy>
  <dcterms:modified xsi:type="dcterms:W3CDTF">2014-11-20T00:45:08Z</dcterms:modified>
  <cp:revision>175</cp:revision>
  <dc:subject/>
  <dc:title>Slide 1</dc:title>
</cp:coreProperties>
</file>