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260-2328-4DD4-A9EE-91D77A3007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B7E-3B96-41A8-8420-8D11115C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82BF-7378-4584-958F-D721B8A7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4C9A-1C34-4C95-9BBA-FC3E04B1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CC3-CC46-4658-B8A6-19BE8624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FDD-1F04-4646-81DC-A390D45F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C41B-3DCC-4E3A-AD43-D68EB4D6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6B9-A859-4CA2-B9E1-0603B2B5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1A07-8082-40BE-90DB-7B1F59A87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D0A3-92CC-4E55-8928-53DD3F6E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96C8-0A54-4AF0-A61D-F883B18E0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57654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Trajan Pro"/>
              </a:rPr>
              <a:t>Session 5: On Fire with Holy L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LOOKING AH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Work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nion 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Take-Home </a:t>
            </a:r>
            <a:r>
              <a:rPr b="1" lang="en-US" sz="3600" spc="-1" strike="noStrike">
                <a:solidFill>
                  <a:srgbClr val="000000"/>
                </a:solidFill>
                <a:latin typeface="Trajan Pro"/>
                <a:ea typeface="ＭＳ Ｐゴシック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your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-home” message—the one thing that spoke most loudly or clearly from today’s sess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A Disciple</a:t>
            </a:r>
            <a:r>
              <a:rPr b="1" i="1" lang="ja-JP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’</a:t>
            </a:r>
            <a:r>
              <a:rPr b="1" i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s Heart</a:t>
            </a:r>
            <a:r>
              <a:rPr b="1" lang="en-US" sz="3600" spc="-1" strike="noStrike">
                <a:solidFill>
                  <a:srgbClr val="000000"/>
                </a:solidFill>
                <a:latin typeface="Trajan Pro"/>
                <a:ea typeface="Times New Roman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Times New Roman"/>
              </a:rPr>
              <a:t>Session 5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22096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Garamond Pro"/>
              </a:rPr>
              <a:t>To claim sanctification as both the renewal of your heart and the transformation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Garamond Pro"/>
              </a:rPr>
              <a:t>To become a contagious Christian who shares the good news with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dobe Garamond Pro"/>
              </a:rPr>
              <a:t>To discover how God might use the fire in your heart to confront the needs of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Garamond Pr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Times New Roman"/>
              </a:rPr>
              <a:t>OPENING PRAY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1760" y="1828800"/>
            <a:ext cx="80010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be to thee, my Lord Jesus Chris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the benefits thou hast given me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the pains and insults thou hast borne for me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st merciful redeemer, friend and brother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I know thee more clearl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thee more dearly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ollow thee more nearly, day by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Richard of Chichester (1197–125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BIBLICAL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400" y="19810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Paul, an apostle of Christ Jesus by the will of God, for the sake of the promise of life that is in Christ Jesus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To Timothy, my beloved child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race, mercy, and peace from God the Father and Christ Jesus our Lord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 am grateful to God—whom I worship with a clear conscience, as my ancestors did—when I remember you constantly in my prayers night and day. Recalling your tears, I long to see you so that I may be filled with joy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5235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 am reminded of your sincere faith, a faith that lived first in your grandmother Lois and your mother Eunice and now, I am sure, lives in you. For this reason I remind you to rekindle the gift of God that is within you through the laying on of my hands; for God did not give us a spirit of cowardice, but rather a spirit of power and of love and of self-disciplin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Timothy 1:1-7 NRS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Contemplative pract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361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th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ing Prayer Session 5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ndout and work through the exerc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Holy Club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209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into pairs or groups of three and discuss the selected Holy Club question(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irs/groups will serve as prayer partners for the coming 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Daily workbook </a:t>
            </a: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explo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574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Poi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Christian perfection (sanctification) the Holy Spirit both renews our hearts and empowers us to be the agents of God’s love and grace in the wor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gn that a person is growing toward Christian perfection is a heart-burning passion to share the l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od with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necessary elements of discipleship that c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fire of divine love burning are doctrine, discipline, and Spir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Trajan Pro"/>
                <a:ea typeface="ＭＳ Ｐゴシック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ways we can live th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le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spel—personally and soci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some ideas for developing a prayer or action plan that helps you to live the whole gosp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6:19:59Z</dcterms:created>
  <dc:creator>BardPC</dc:creator>
  <dc:description/>
  <dc:language>en-US</dc:language>
  <cp:lastModifiedBy>Tim Cobb</cp:lastModifiedBy>
  <dcterms:modified xsi:type="dcterms:W3CDTF">2014-11-20T00:44:01Z</dcterms:modified>
  <cp:revision>184</cp:revision>
  <dc:subject/>
  <dc:title>Slide 1</dc:title>
</cp:coreProperties>
</file>